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4.jpeg" ContentType="image/jpeg"/>
  <Override PartName="/ppt/media/image5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654-A4AC-4DDC-8BD0-BC76A1D6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C21-EEE6-46D3-8131-F0260D6E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CA1-08C8-46AB-8091-8F927489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AFE-27EA-4D53-B44E-FBFF6665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957-F3A7-4B49-BC6F-61E96871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117-8FD6-425C-B1B5-A4713612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194-07BB-4A27-B90D-16B51E3D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295-7DA6-406E-BE85-0E0CB45D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ABC-CAEB-4F30-8BBF-C85D86A6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82B-B1A8-4147-A601-4E6B0670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836-9C81-46E5-9B7E-0005D152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181-2B86-426F-9571-A3472EE9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23F0-ADC5-44E4-96BC-54529E0346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28E8-094B-44F9-A655-8E903484F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ние духовно-нравственных ценностей на уроках русского языка и литера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Текст 2" descr=""/>
          <p:cNvPicPr/>
          <p:nvPr/>
        </p:nvPicPr>
        <p:blipFill>
          <a:blip r:embed="rId2"/>
          <a:stretch/>
        </p:blipFill>
        <p:spPr>
          <a:xfrm>
            <a:off x="536400" y="836640"/>
            <a:ext cx="7802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Текст 2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038480" cy="3317760"/>
          </a:xfrm>
          <a:prstGeom prst="rect">
            <a:avLst/>
          </a:prstGeom>
          <a:ln w="0">
            <a:noFill/>
          </a:ln>
        </p:spPr>
      </p:pic>
      <p:pic>
        <p:nvPicPr>
          <p:cNvPr id="59" name="Текст 2" descr=""/>
          <p:cNvPicPr/>
          <p:nvPr/>
        </p:nvPicPr>
        <p:blipFill>
          <a:blip r:embed="rId3"/>
          <a:stretch/>
        </p:blipFill>
        <p:spPr>
          <a:xfrm>
            <a:off x="5219640" y="1039680"/>
            <a:ext cx="3313080" cy="2414880"/>
          </a:xfrm>
          <a:prstGeom prst="rect">
            <a:avLst/>
          </a:prstGeom>
          <a:ln w="0">
            <a:noFill/>
          </a:ln>
        </p:spPr>
      </p:pic>
      <p:pic>
        <p:nvPicPr>
          <p:cNvPr id="60" name="Текст 2" descr=""/>
          <p:cNvPicPr/>
          <p:nvPr/>
        </p:nvPicPr>
        <p:blipFill>
          <a:blip r:embed="rId4"/>
          <a:stretch/>
        </p:blipFill>
        <p:spPr>
          <a:xfrm>
            <a:off x="5219640" y="36910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Текст 2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Текст 2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80228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1360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русского человека духовность – это самосознание, напряжённый процесс «делания» собственной душ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4ACD-5E69-4B2A-9E74-FBED91A509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3294-4B47-407A-ACDC-D6A4FAA49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духовно-нравственным воспитанием понимается формирование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равственных чувств (совести, долга, веры, ответственности, гражданственности, патриотизма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равственной позиции (способности к различению добра и зла, готовности к преодолению жизненных испытаний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равственного поведения (готовности служения людя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ик Г.Мерки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Живое слово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е возможности для самореал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российский конкур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Сказки Красивого Сердца»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Легенда об одиноком Камн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классные мероприят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Текст 2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Текст 2" descr=""/>
          <p:cNvPicPr/>
          <p:nvPr/>
        </p:nvPicPr>
        <p:blipFill>
          <a:blip r:embed="rId3"/>
          <a:stretch/>
        </p:blipFill>
        <p:spPr>
          <a:xfrm>
            <a:off x="4643280" y="2060640"/>
            <a:ext cx="40388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Текст 2" descr=""/>
          <p:cNvPicPr/>
          <p:nvPr/>
        </p:nvPicPr>
        <p:blipFill>
          <a:blip r:embed="rId2"/>
          <a:stretch/>
        </p:blipFill>
        <p:spPr>
          <a:xfrm>
            <a:off x="973080" y="187164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53" name="Текст 2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185920" cy="2914920"/>
          </a:xfrm>
          <a:prstGeom prst="rect">
            <a:avLst/>
          </a:prstGeom>
          <a:ln w="0">
            <a:noFill/>
          </a:ln>
        </p:spPr>
      </p:pic>
      <p:pic>
        <p:nvPicPr>
          <p:cNvPr id="54" name="Текст 2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Текст 2" descr=""/>
          <p:cNvPicPr/>
          <p:nvPr/>
        </p:nvPicPr>
        <p:blipFill>
          <a:blip r:embed="rId2"/>
          <a:stretch/>
        </p:blipFill>
        <p:spPr>
          <a:xfrm>
            <a:off x="669960" y="765000"/>
            <a:ext cx="78026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Текст 2" descr=""/>
          <p:cNvPicPr/>
          <p:nvPr/>
        </p:nvPicPr>
        <p:blipFill>
          <a:blip r:embed="rId2"/>
          <a:stretch/>
        </p:blipFill>
        <p:spPr>
          <a:xfrm>
            <a:off x="1646280" y="765000"/>
            <a:ext cx="585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0:54:37Z</dcterms:created>
  <dc:creator>Александрова З.В. (Aida_Alex)</dc:creator>
  <dc:description>http://aida.ucoz.ru</dc:description>
  <dc:language>en-US</dc:language>
  <cp:lastModifiedBy>Admin</cp:lastModifiedBy>
  <dcterms:modified xsi:type="dcterms:W3CDTF">2016-12-03T09:27:13Z</dcterms:modified>
  <cp:revision>12</cp:revision>
  <dc:subject/>
  <dc:title>литература 2</dc:title>
</cp:coreProperties>
</file>